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8.jpeg" ContentType="image/jpeg"/>
  <Override PartName="/ppt/media/image27.jpeg" ContentType="image/jpeg"/>
  <Override PartName="/ppt/media/image5.wmf" ContentType="image/x-wmf"/>
  <Override PartName="/ppt/media/image30.png" ContentType="image/png"/>
  <Override PartName="/ppt/media/image28.wmf" ContentType="image/x-wmf"/>
  <Override PartName="/ppt/media/image18.png" ContentType="image/png"/>
  <Override PartName="/ppt/media/image20.png" ContentType="image/png"/>
  <Override PartName="/ppt/media/image7.jpeg" ContentType="image/jpeg"/>
  <Override PartName="/ppt/media/image31.wmf" ContentType="image/x-wmf"/>
  <Override PartName="/ppt/media/image6.wmf" ContentType="image/x-wmf"/>
  <Override PartName="/ppt/media/image9.jpeg" ContentType="image/jpeg"/>
  <Override PartName="/ppt/media/image12.jpeg" ContentType="image/jpeg"/>
  <Override PartName="/ppt/media/image13.png" ContentType="image/png"/>
  <Override PartName="/ppt/media/image32.wmf" ContentType="image/x-wmf"/>
  <Override PartName="/ppt/media/image29.jpeg" ContentType="image/jpeg"/>
  <Override PartName="/ppt/media/image3.wmf" ContentType="image/x-wmf"/>
  <Override PartName="/ppt/media/image2.png" ContentType="image/png"/>
  <Override PartName="/ppt/media/image25.png" ContentType="image/png"/>
  <Override PartName="/ppt/media/image4.wmf" ContentType="image/x-wmf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A209-B091-4566-91FD-A1F27E7B3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525D-5063-4839-BE39-DBF23E3861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307D-9DF0-404C-8BDF-872FB99BE1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05A3-D05E-44EA-8E07-34A88B0E86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C936-96E8-4041-B92E-E8715D3A3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2EAE-4A8B-42D3-9833-298CCB49E8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68E-DE2B-40AF-8059-A7B3C305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D41-1D0B-4548-B96E-B1CE3A9E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CA182-AFFF-4B75-BFCC-DE72CF63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8DD4A-A7C8-4788-8720-C137B33F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C3478-95D6-4449-90F5-105452E1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C72AE-F28C-43B9-B4A4-B204BAF4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BF105-E962-42B7-82DE-5FFC76BD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768D2-B113-4225-B8E4-94B704DA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21CB5-9EE5-49CF-ADA8-1E8D687E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FCD5D-B572-411B-9A47-4830CC40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04CCE-B84A-46B5-A964-EF2ACF16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3A804-41D5-482F-93C7-08098553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D9F-AFA9-48ED-8252-8D32872D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090F1-2F08-4CB4-845D-6AB7331F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7C18D-DC1E-429F-BB71-E7AFAA7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6C54C-2189-4F5D-AEEB-91DD245C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FCFA5-6264-4304-B9EC-DE236B73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BCF9A-DC14-452B-8789-C05CD56E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0795E-65AC-4279-B361-3D549238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1A520-405B-4835-91A1-3B99F67D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3700B-7FF9-4D90-A848-E7E5C95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F76EA-4C28-4EBA-81B8-3F7DE508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7A0E7-49F4-4DB4-9EF6-F09B02AD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7C7-BAE7-464F-A147-9BC47D47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8B788-401D-4979-B884-9A6BAFB3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3E3E1-7B46-4445-A684-72357281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E48DC-D24A-46B8-869A-2D9D0D72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A6566-0259-45DA-A44B-D17F7A70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64E19-8077-46CE-A305-B604FE5B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5E251-1D9C-4519-AD47-FD2F11FA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776FD-DDE6-4501-83BF-31D0602F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84B47-00A2-4BFD-9FA5-561BADD4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635E9-664D-4D9E-88B0-69A95E91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315D3-91E2-47C9-9B7A-0E3D1950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5DBE-839D-48E6-8120-B6AA8E10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E266D-D78B-4231-A286-671B7FCE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B584F-99D5-46A5-8F47-86FC5C4E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ED884-4EC9-44F0-A767-32DB8F54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DD365-EAA1-436F-A9D0-1499BED9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F851A-A951-4544-B4E3-E42F0422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4E0A0-9440-4ED8-8DB4-00E876CD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6D5B9-AC65-4BDF-B7EF-0169661A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BE6F1-EE8A-47B9-88BD-80C583C3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151F4-2668-42F4-A099-311F88C1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05504-F444-46E1-AE15-0C577A14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9E3F-D09A-482A-8359-1849B692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DEDD9-FC8D-483B-84E9-D1CE2CB0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199CC-D535-476F-9FE0-653BC01B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03992-5630-47E2-B22B-64AC984F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81B2D-6446-424F-B14D-C9704771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51520-2E94-4134-A8E6-4D969F5D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29CA-B0D2-4871-94C5-A92C9160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C833-2FA3-4C0B-B669-A323527E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F71F-5017-4DBB-BA8D-0FA69DE1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8FE2-A624-4707-89AB-BC424B53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B33A-D221-4E27-8CC1-1820D01D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02C-0015-4DE1-9C6D-1A34CD4F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379B-FB08-40B1-8883-7153D6B4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0F74-A2FA-4C01-9E51-B41C62A3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646B-07D2-4040-9A5C-D66EC978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91B1-8EDC-4358-BACD-88F9E3B5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F5B3-44E8-4C63-B1DA-F5F71193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3314-73B5-43E7-B469-821EE630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C54B6-6758-4FD5-9B94-CD7BC129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6479-FE65-41BA-83F2-4E41CE1A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BD0D-430D-4C4A-8CB5-945B32A2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C1B1-A73E-4E6F-AF6B-C25C1000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53F-479D-44B8-B459-21C8EF78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619D-A18C-48F1-B06F-31F2A285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E908-4ACB-473B-A63E-954B46D2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D6B8-D5B6-4CB6-A36F-ADB4933F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F63C-6982-4DF9-AC87-0E185AF6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969B-5788-412F-ABAE-CAAC97EC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824C-753F-4A5C-9C27-4E6C833F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5A9D-F0B9-4821-971D-F89534DB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0CFD7-02AF-4998-890C-34B25D21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A61E-25CB-4E9E-9A72-9767ACB6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C2C5D-42DA-4916-924B-00501109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8F6-91C8-4277-9946-58DE6B33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5DFD2-E36A-4B82-8BEF-3A3C825D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E77C2-797F-4FCE-A9DE-AF1298BC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2AB9-1B9F-42D2-9BF8-E8DB702F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6033A-C5BA-4430-8388-71D0812D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1E5D-5C60-4CA9-9C05-5A85E139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42A7E-2D2F-40AB-854D-0D86CD8C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558C6-A7A7-420B-B664-28A16727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F5C1-FFE7-4151-A7C9-74C330BB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463D-5E75-42E8-8D2E-28ADEB0E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E0FA5-568A-4088-88F6-6A8F0406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C77-9A5D-4520-8072-A713EF65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26954-5C02-4A88-9E58-D4C97AE6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69A5C-2433-4E11-BFE1-D2456AB5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AD8C-C397-4D75-952E-7298C329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B896E-5667-499B-BD26-1B9D016D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5892-9996-43F2-91E5-98DD2B1C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5B23-CA62-41CC-AED4-8DBDE6BA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D8D3F-9601-4BF5-9149-97A48AA8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F54BA-1C34-4453-A0A2-135B4BD3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B9EF-985F-46B4-B272-D06DBFA8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EB66C-8BA3-4548-A0BE-71A19A22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618-6617-4BFC-A8F1-FBAF9D2B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CDA6F-0335-4471-9D2A-54382334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2C3A2-5070-49A5-96B2-10E6FBF4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61312-7D96-4D25-89E7-B40B9C2D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56561-8156-413F-B7ED-B70D23DF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D89BC-4904-4718-BF7C-9C654C6A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748A7-E1A7-407B-841D-928B2315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340B5-285C-4F06-B0FC-A137C187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7CE45-FC92-468E-952B-015B2225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F4B8C-CE24-4009-8A55-E58E5D19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4A169-115F-42B0-804D-F0F5DD7E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D2E-30A4-4B5C-8A1A-A02AC3B6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19BE4-CD99-4FCE-8260-B3C023AE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642B2-FE5B-48D4-BF71-FE2FB63E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EA86-B899-41A7-82E7-672451D5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E8A10-9B98-44EE-B80A-87AE8F09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E4093-BE9D-40A2-AD5D-81B62F99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E53F6-F475-41AA-ADA4-3BE441E8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C5442-B59E-4B00-AFE7-B25761D3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F1766-5044-41A2-8369-D2E79E95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91368-B6F6-44EF-ACEF-10F3B888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03FA6-52FE-4A24-8751-9D4B36D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040-C1CE-4DBF-9FE1-2608E916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5EDE9-7F94-4087-8C56-5FAA665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AFB0C-AEA1-48B2-B9DD-56BC5F07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08394-9CDE-42BE-99BA-15FFA108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E586E-EE6A-45A5-AD27-E2067D22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333B-F49C-4B88-8762-641BCD4C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CBE08-C577-44A6-9395-D4A74F5D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00691-357A-4248-B827-FE570546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7A582-7758-4163-989B-2A960659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A7488-8A5E-42C1-9D56-9C065D3A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AD296-B777-431A-85D1-2AFEB61C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D46-7EA2-4001-8FC7-4A0176BA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2403A-09BB-40BB-B537-DCA743EC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EAA46-67BA-40AF-B214-1D789A2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195CB-E9A7-4ED5-8B49-6A8AB095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5011-BA20-405C-8FEE-5B09388D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9F00B-1E4E-4845-ABEF-3E4DC8BC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FD0FC-032B-4528-97E3-8FF01345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AE926-C6AF-485D-9490-930CE744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53DEB-D98B-4018-8D0A-E8A17A50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D19A0-E06C-4253-AB9E-9A77E46E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B30A1-7076-4946-9620-72469B5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1C90-8097-48BB-9A2D-6C0A67DCD8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4B92-706A-4E2A-86D2-A72CF702A1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9D5B-C665-4D36-B6E9-A036D912A1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F7DC-4A3B-4A43-9449-E34346A05F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737A-721D-4644-92B8-BF06E36283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2DAF-C9C1-4327-906B-3A5C250E61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F9B8-93C9-4F68-B822-36A98FC249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32A3-2BED-493E-A107-C75ED93DE2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0AB1-630E-4111-8C2D-7EE45FEB0D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2197-FD77-4CA1-B82C-B11BBFE59A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889-8917-4909-948B-B3187F4564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8996-70AB-4C5B-A3BF-C9E9CEF2B3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 rot="20700000">
            <a:off x="-398160" y="3122280"/>
            <a:ext cx="778032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Rockwell"/>
              </a:rPr>
              <a:t>Safe and Smart with Tech</a:t>
            </a:r>
            <a:endParaRPr b="0" lang="en-US" sz="4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480" y="450864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February 27, 2013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quitlam River Elementary Schoo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7" name="Picture 6" descr="C:\Users\dsands\AppData\Local\Microsoft\Windows\Temporary Internet Files\Content.IE5\GDZGXQPE\MC900232047[1].wmf"/>
          <p:cNvPicPr/>
          <p:nvPr/>
        </p:nvPicPr>
        <p:blipFill>
          <a:blip r:embed="rId1"/>
          <a:stretch/>
        </p:blipFill>
        <p:spPr>
          <a:xfrm>
            <a:off x="1260360" y="4443480"/>
            <a:ext cx="3102120" cy="2403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C:\Users\dsands\AppData\Local\Microsoft\Windows\Temporary Internet Files\Content.IE5\X6DQBF1B\MC900446302[1].wmf"/>
          <p:cNvPicPr/>
          <p:nvPr/>
        </p:nvPicPr>
        <p:blipFill>
          <a:blip r:embed="rId2"/>
          <a:stretch/>
        </p:blipFill>
        <p:spPr>
          <a:xfrm>
            <a:off x="531720" y="171360"/>
            <a:ext cx="2960640" cy="2959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9" descr="C:\Users\dsands\AppData\Local\Microsoft\Windows\Temporary Internet Files\Content.IE5\GDZGXQPE\MC900338110[1].wmf"/>
          <p:cNvPicPr/>
          <p:nvPr/>
        </p:nvPicPr>
        <p:blipFill>
          <a:blip r:embed="rId3"/>
          <a:stretch/>
        </p:blipFill>
        <p:spPr>
          <a:xfrm>
            <a:off x="6443640" y="0"/>
            <a:ext cx="257976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 rot="17100000">
            <a:off x="-375120" y="1975320"/>
            <a:ext cx="506556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Cyberbullying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348000" y="836280"/>
            <a:ext cx="57960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ay “No” - Tell an </a:t>
            </a: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Adul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Mom or Dad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Teacher or Principa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Older Brother or Sister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c000"/>
              </a:buClr>
              <a:buSzPct val="1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Save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/Print the comm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c000"/>
              </a:buClr>
              <a:buSzPct val="1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Solve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the problem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Keep you </a:t>
            </a: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c000"/>
              </a:buClr>
              <a:buSzPct val="1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3" name="Picture 5" descr="C:\Users\dsands\AppData\Local\Microsoft\Windows\Temporary Internet Files\Content.IE5\X6DQBF1B\MC900233313[1].wmf"/>
          <p:cNvPicPr/>
          <p:nvPr/>
        </p:nvPicPr>
        <p:blipFill>
          <a:blip r:embed="rId1"/>
          <a:stretch/>
        </p:blipFill>
        <p:spPr>
          <a:xfrm>
            <a:off x="468360" y="4119480"/>
            <a:ext cx="267660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at makes a good </a:t>
            </a:r>
            <a:r>
              <a:rPr b="0" lang="en-US" sz="4000" spc="-1" strike="noStrike">
                <a:solidFill>
                  <a:srgbClr val="ffc000"/>
                </a:solidFill>
                <a:latin typeface="Rockwell"/>
              </a:rPr>
              <a:t>Online Citizen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642920" y="0"/>
            <a:ext cx="4286520" cy="37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e </a:t>
            </a: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nice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o others - as you would in pers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se proper </a:t>
            </a: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e </a:t>
            </a: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patient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and forgiv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6" name="Picture 4" descr="C:\Users\dsands\AppData\Local\Microsoft\Windows\Temporary Internet Files\Content.IE5\RM9NPZQS\MC900435731[1].wmf"/>
          <p:cNvPicPr/>
          <p:nvPr/>
        </p:nvPicPr>
        <p:blipFill>
          <a:blip r:embed="rId1"/>
          <a:stretch/>
        </p:blipFill>
        <p:spPr>
          <a:xfrm>
            <a:off x="4788000" y="3500280"/>
            <a:ext cx="3168720" cy="29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How Many of you…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708360" y="333000"/>
            <a:ext cx="5191200" cy="506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ve an </a:t>
            </a: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iPad or iPod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lay </a:t>
            </a: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video games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alk on </a:t>
            </a: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Skype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ve a </a:t>
            </a: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password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ve come across something </a:t>
            </a: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“bad” online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2" name="Picture 4" descr="C:\Users\dsands\AppData\Local\Microsoft\Windows\Temporary Internet Files\Content.IE5\X6DQBF1B\MC900060332[1].wmf"/>
          <p:cNvPicPr/>
          <p:nvPr/>
        </p:nvPicPr>
        <p:blipFill>
          <a:blip r:embed="rId1"/>
          <a:stretch/>
        </p:blipFill>
        <p:spPr>
          <a:xfrm>
            <a:off x="1092240" y="4160880"/>
            <a:ext cx="45594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this all about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877840" y="2480760"/>
            <a:ext cx="4802040" cy="42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c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our use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omputers, video games, and iPads/iPod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Cyberbully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ncourage </a:t>
            </a:r>
            <a:r>
              <a:rPr b="0" lang="en-US" sz="2800" spc="-1" strike="noStrike">
                <a:solidFill>
                  <a:srgbClr val="00b050"/>
                </a:solidFill>
                <a:latin typeface="Rockwell"/>
              </a:rPr>
              <a:t>Social Responsibility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ith tech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5" name="Picture 6" descr="C:\Users\dsands\AppData\Local\Microsoft\Windows\Temporary Internet Files\Content.Outlook\JKNHDH7G\photo (11).JPG"/>
          <p:cNvPicPr/>
          <p:nvPr/>
        </p:nvPicPr>
        <p:blipFill>
          <a:blip r:embed="rId1"/>
          <a:stretch/>
        </p:blipFill>
        <p:spPr>
          <a:xfrm>
            <a:off x="5435640" y="333360"/>
            <a:ext cx="3421080" cy="2554200"/>
          </a:xfrm>
          <a:prstGeom prst="rect">
            <a:avLst/>
          </a:prstGeom>
          <a:ln w="0">
            <a:noFill/>
          </a:ln>
        </p:spPr>
      </p:pic>
      <p:sp>
        <p:nvSpPr>
          <p:cNvPr id="566" name="TextBox 1"/>
          <p:cNvSpPr/>
          <p:nvPr/>
        </p:nvSpPr>
        <p:spPr>
          <a:xfrm>
            <a:off x="1619280" y="333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ter – The Eag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 rot="17100000">
            <a:off x="-1194480" y="3164400"/>
            <a:ext cx="59166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ere does it  happen?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8" name="Picture 19" descr="imagesCAOEUU8Y.jpg"/>
          <p:cNvPicPr/>
          <p:nvPr/>
        </p:nvPicPr>
        <p:blipFill>
          <a:blip r:embed="rId1"/>
          <a:stretch/>
        </p:blipFill>
        <p:spPr>
          <a:xfrm>
            <a:off x="6948360" y="189000"/>
            <a:ext cx="2040120" cy="1224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6" descr="images3.jpg"/>
          <p:cNvPicPr/>
          <p:nvPr/>
        </p:nvPicPr>
        <p:blipFill>
          <a:blip r:embed="rId2"/>
          <a:stretch/>
        </p:blipFill>
        <p:spPr>
          <a:xfrm rot="871800">
            <a:off x="4041720" y="29988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7" descr="images.jpg"/>
          <p:cNvPicPr/>
          <p:nvPr/>
        </p:nvPicPr>
        <p:blipFill>
          <a:blip r:embed="rId3"/>
          <a:stretch/>
        </p:blipFill>
        <p:spPr>
          <a:xfrm rot="954000">
            <a:off x="2377800" y="556560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8" descr="imagesCAKTRLBD.jpg"/>
          <p:cNvPicPr/>
          <p:nvPr/>
        </p:nvPicPr>
        <p:blipFill>
          <a:blip r:embed="rId4"/>
          <a:stretch/>
        </p:blipFill>
        <p:spPr>
          <a:xfrm>
            <a:off x="6269040" y="3654360"/>
            <a:ext cx="1698480" cy="1535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2" descr="imagesCAN03YNH.jpg"/>
          <p:cNvPicPr/>
          <p:nvPr/>
        </p:nvPicPr>
        <p:blipFill>
          <a:blip r:embed="rId5"/>
          <a:stretch/>
        </p:blipFill>
        <p:spPr>
          <a:xfrm>
            <a:off x="5559480" y="561168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7" descr=""/>
          <p:cNvPicPr/>
          <p:nvPr/>
        </p:nvPicPr>
        <p:blipFill>
          <a:blip r:embed="rId6"/>
          <a:stretch/>
        </p:blipFill>
        <p:spPr>
          <a:xfrm>
            <a:off x="5276880" y="2604960"/>
            <a:ext cx="1195200" cy="1206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8" descr=""/>
          <p:cNvPicPr/>
          <p:nvPr/>
        </p:nvPicPr>
        <p:blipFill>
          <a:blip r:embed="rId7"/>
          <a:stretch/>
        </p:blipFill>
        <p:spPr>
          <a:xfrm rot="970800">
            <a:off x="3206520" y="302580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0" descr=""/>
          <p:cNvPicPr/>
          <p:nvPr/>
        </p:nvPicPr>
        <p:blipFill>
          <a:blip r:embed="rId8"/>
          <a:stretch/>
        </p:blipFill>
        <p:spPr>
          <a:xfrm rot="19832400">
            <a:off x="479520" y="468000"/>
            <a:ext cx="1143000" cy="666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1" descr=""/>
          <p:cNvPicPr/>
          <p:nvPr/>
        </p:nvPicPr>
        <p:blipFill>
          <a:blip r:embed="rId9"/>
          <a:stretch/>
        </p:blipFill>
        <p:spPr>
          <a:xfrm rot="1069800">
            <a:off x="253800" y="1890720"/>
            <a:ext cx="2120760" cy="893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2" descr=""/>
          <p:cNvPicPr/>
          <p:nvPr/>
        </p:nvPicPr>
        <p:blipFill>
          <a:blip r:embed="rId10"/>
          <a:stretch/>
        </p:blipFill>
        <p:spPr>
          <a:xfrm>
            <a:off x="2057400" y="100080"/>
            <a:ext cx="1774800" cy="1035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3" descr=""/>
          <p:cNvPicPr/>
          <p:nvPr/>
        </p:nvPicPr>
        <p:blipFill>
          <a:blip r:embed="rId11"/>
          <a:stretch/>
        </p:blipFill>
        <p:spPr>
          <a:xfrm>
            <a:off x="3222720" y="1413000"/>
            <a:ext cx="1790640" cy="1044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4" descr=""/>
          <p:cNvPicPr/>
          <p:nvPr/>
        </p:nvPicPr>
        <p:blipFill>
          <a:blip r:embed="rId12"/>
          <a:stretch/>
        </p:blipFill>
        <p:spPr>
          <a:xfrm rot="1415400">
            <a:off x="6824160" y="2238480"/>
            <a:ext cx="1981440" cy="11556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5" descr=""/>
          <p:cNvPicPr/>
          <p:nvPr/>
        </p:nvPicPr>
        <p:blipFill>
          <a:blip r:embed="rId13"/>
          <a:stretch/>
        </p:blipFill>
        <p:spPr>
          <a:xfrm>
            <a:off x="6043680" y="1228680"/>
            <a:ext cx="1923840" cy="11224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6" descr=""/>
          <p:cNvPicPr/>
          <p:nvPr/>
        </p:nvPicPr>
        <p:blipFill>
          <a:blip r:embed="rId14"/>
          <a:stretch/>
        </p:blipFill>
        <p:spPr>
          <a:xfrm>
            <a:off x="7191360" y="4929120"/>
            <a:ext cx="1847880" cy="1077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7" descr=""/>
          <p:cNvPicPr/>
          <p:nvPr/>
        </p:nvPicPr>
        <p:blipFill>
          <a:blip r:embed="rId15"/>
          <a:stretch/>
        </p:blipFill>
        <p:spPr>
          <a:xfrm rot="18564000">
            <a:off x="371520" y="4106520"/>
            <a:ext cx="1616040" cy="9428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9" descr=""/>
          <p:cNvPicPr/>
          <p:nvPr/>
        </p:nvPicPr>
        <p:blipFill>
          <a:blip r:embed="rId16"/>
          <a:stretch/>
        </p:blipFill>
        <p:spPr>
          <a:xfrm>
            <a:off x="3205080" y="4456080"/>
            <a:ext cx="2838600" cy="828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9" descr=""/>
          <p:cNvPicPr/>
          <p:nvPr/>
        </p:nvPicPr>
        <p:blipFill>
          <a:blip r:embed="rId17"/>
          <a:stretch/>
        </p:blipFill>
        <p:spPr>
          <a:xfrm>
            <a:off x="227160" y="2793960"/>
            <a:ext cx="1830240" cy="1025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0" descr=""/>
          <p:cNvPicPr/>
          <p:nvPr/>
        </p:nvPicPr>
        <p:blipFill>
          <a:blip r:embed="rId18"/>
          <a:stretch/>
        </p:blipFill>
        <p:spPr>
          <a:xfrm rot="20161200">
            <a:off x="3828600" y="2134800"/>
            <a:ext cx="1932120" cy="10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 rot="17072400">
            <a:off x="-1409040" y="2886480"/>
            <a:ext cx="60120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y do we use tech?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"/>
          <p:cNvSpPr txBox="1"/>
          <p:nvPr/>
        </p:nvSpPr>
        <p:spPr>
          <a:xfrm rot="996000">
            <a:off x="3735360" y="420480"/>
            <a:ext cx="2733840" cy="41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825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f0"/>
                </a:solidFill>
                <a:latin typeface="Rockwell"/>
              </a:rPr>
              <a:t>Fun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825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f0"/>
                </a:solidFill>
                <a:latin typeface="Rockwell"/>
              </a:rPr>
              <a:t>Adventure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825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f0"/>
                </a:solidFill>
                <a:latin typeface="Rockwell"/>
              </a:rPr>
              <a:t>Creating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825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f0"/>
                </a:solidFill>
                <a:latin typeface="Rockwell"/>
              </a:rPr>
              <a:t>Learning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825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88" name="Picture 5" descr=""/>
          <p:cNvPicPr/>
          <p:nvPr/>
        </p:nvPicPr>
        <p:blipFill>
          <a:blip r:embed="rId1"/>
          <a:stretch/>
        </p:blipFill>
        <p:spPr>
          <a:xfrm>
            <a:off x="5940360" y="3616200"/>
            <a:ext cx="279900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 rot="17100000">
            <a:off x="-1474200" y="2459880"/>
            <a:ext cx="6478560" cy="16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</a:t>
            </a:r>
            <a:r>
              <a:rPr b="0" lang="en-US" sz="4400" spc="-1" strike="noStrike">
                <a:solidFill>
                  <a:srgbClr val="ff0000"/>
                </a:solidFill>
                <a:latin typeface="Rockwell"/>
              </a:rPr>
              <a:t>Cyber-bullying</a:t>
            </a: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067280" y="404280"/>
            <a:ext cx="46576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Cyber-bullying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is using the Internet, cell phones, or other technology to send or post images or texts intended to hurt othe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3924360" y="3701880"/>
            <a:ext cx="4594320" cy="29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1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30080" indent="-365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Your best friend asks for your password to your family’s iPad (or to your favourite online site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do you do?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4" name="Picture 5" descr="C:\Users\dsands\AppData\Local\Microsoft\Windows\Temporary Internet Files\Content.IE5\6QOL6NSR\MC900060335[1].wmf"/>
          <p:cNvPicPr/>
          <p:nvPr/>
        </p:nvPicPr>
        <p:blipFill>
          <a:blip r:embed="rId1"/>
          <a:stretch/>
        </p:blipFill>
        <p:spPr>
          <a:xfrm>
            <a:off x="0" y="4214880"/>
            <a:ext cx="457200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 rot="4500000">
            <a:off x="5171040" y="2230920"/>
            <a:ext cx="482112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2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11280" y="692280"/>
            <a:ext cx="72324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 are surfing the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ternet and something “bad” pops up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7" name="Picture 1" descr=""/>
          <p:cNvPicPr/>
          <p:nvPr/>
        </p:nvPicPr>
        <p:blipFill>
          <a:blip r:embed="rId1"/>
          <a:stretch/>
        </p:blipFill>
        <p:spPr>
          <a:xfrm>
            <a:off x="1692360" y="2419200"/>
            <a:ext cx="4174920" cy="41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3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563640" y="620280"/>
            <a:ext cx="54608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 are playing an online game and someone asks to be your “friend” …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0" name="Picture 1" descr=""/>
          <p:cNvPicPr/>
          <p:nvPr/>
        </p:nvPicPr>
        <p:blipFill>
          <a:blip r:embed="rId1"/>
          <a:stretch/>
        </p:blipFill>
        <p:spPr>
          <a:xfrm>
            <a:off x="3500280" y="2997360"/>
            <a:ext cx="4857840" cy="363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3-02-27T18:00:28Z</dcterms:modified>
  <cp:revision>75</cp:revision>
  <dc:subject/>
  <dc:title>Technology, kids and you</dc:title>
</cp:coreProperties>
</file>